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F1B-6A93-4C37-9AA1-B76CED6C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3D2-56C7-4909-BEC4-3E5AF773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du.pe.ca/southernkings/microfung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re what type of microscopic fungi this is…looks like an image of hyph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94D-A269-4C51-80A6-E3E815DA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ollege-prep.org/~bernie/sciproject/project/Kingdoms/Fungi5/Fungi_Evolu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ADE3-EC3B-4697-B480-6B3A7E97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D0E-9767-4EDD-86B1-B625FE0F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schoolscience.co.uk/SGM/sgmmicrobe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9B3D-600F-4CC0-8F62-BE4D54371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Fung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om: http://rachaelherbert.blogspot.ca/2010/04/happ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C7E5-DD8F-4AA1-A411-0657496E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ile:Orange_and_white_lich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4B8-012B-420C-B809-F588C522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eenmanconservation.co.uk/Mycorrhiz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A4C1-1876-439E-B841-870B021E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bertan1956.blogspot.ca/2011/01/leaf-cutter-ants-overachievers-o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C0B-7A5B-4D19-9F8B-A9C427E0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zzle.ca/i_love_fungi_mug-1680347453429755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like penicillin (antibiotic), cyclosporine (for organ trans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444-DC57-430A-8E51-44240E61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hotoshopcontest.com/view-entry/183031/angry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D0E1-55CB-4CBD-9895-C474F9FD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wise from top left: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manita muscar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 basidiomycete;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Sarcoscypha coccin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 ascomycete;bread covered in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hyt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an </a:t>
            </a:r>
            <a:r>
              <a:rPr b="0" i="1" lang="en-US" sz="1200" spc="-1" strike="noStrike">
                <a:solidFill>
                  <a:srgbClr val="2048a8"/>
                </a:solidFill>
                <a:latin typeface="Arial"/>
              </a:rPr>
              <a:t>Aspergillu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048a8"/>
                </a:solidFill>
                <a:latin typeface="Arial"/>
              </a:rPr>
              <a:t>conidioph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8E46-4A6B-4670-90BF-32439C66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052-F344-4146-908D-0D3E6B90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info_8584629_similarities-between-plants-fungi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06C6-36CA-44D3-ACCB-6BFF9ABE1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haron-taxonomy2009-p3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Fungi are more closely related to animals, no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8DE-AF89-4B53-B932-CB780D85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65F9-440B-43E4-8456-340D1C71D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903.nicerweb.com/Locked/media/ch31/fungus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CF51-1EF2-450B-9196-56CA0B53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2EEE-0A56-4139-9581-CE64B0006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903.nicerweb.com/Locked/media/ch31/phyl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ADF-E0D1-4439-A946-8199D5A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591-1165-4D62-8FF0-D1F8B38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A46-2FDA-47AE-AC25-877CCA90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DF0-394C-473B-BC3E-D5107C60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1D3-A1D5-48F6-A00E-6306325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55A-364A-4382-B519-881A226C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0B8-5926-474D-8745-6AD5C9FD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6A6-7EFB-4CC6-8BC7-AF46084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C20-817D-45EE-B91D-DF9F86F9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2E0-B79B-4D17-93AB-5A2730C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EE9-EFB8-446D-BA62-941BA9B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76E-5D2D-4D66-AD05-321302C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BC28-5E24-4405-A01E-E3CD6453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hylogeny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re complicated, with stages of sexual &amp; asexual reproduction (alternation of gene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iomyc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mushrooms) sometimes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karyo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with 2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ell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es by 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evolved from multicellular fun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yeast"/>
          <p:cNvPicPr/>
          <p:nvPr/>
        </p:nvPicPr>
        <p:blipFill>
          <a:blip r:embed="rId1"/>
          <a:stretch/>
        </p:blipFill>
        <p:spPr>
          <a:xfrm>
            <a:off x="4648320" y="2482920"/>
            <a:ext cx="3809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ers (like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4520558924_9acd76afca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i + cyanobacteri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n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800px-Orange_and_white_lichen"/>
          <p:cNvPicPr/>
          <p:nvPr/>
        </p:nvPicPr>
        <p:blipFill>
          <a:blip r:embed="rId1"/>
          <a:stretch/>
        </p:blipFill>
        <p:spPr>
          <a:xfrm>
            <a:off x="4038480" y="24289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rrh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mycelium grows around or within root cells of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9" descr="Mycorrhizal_Root_Tips"/>
          <p:cNvPicPr/>
          <p:nvPr/>
        </p:nvPicPr>
        <p:blipFill>
          <a:blip r:embed="rId1"/>
          <a:stretch/>
        </p:blipFill>
        <p:spPr>
          <a:xfrm>
            <a:off x="4191120" y="2330280"/>
            <a:ext cx="4495680" cy="33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-Cutter 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s clean and chew leaves to feed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eats fun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af-Cutting-Ants-Photographic-Print-C12816629"/>
          <p:cNvPicPr/>
          <p:nvPr/>
        </p:nvPicPr>
        <p:blipFill>
          <a:blip r:embed="rId1"/>
          <a:stretch/>
        </p:blipFill>
        <p:spPr>
          <a:xfrm>
            <a:off x="4495680" y="2448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benef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ble mushrooms, truf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soy sauce, bread, blue che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of alcoholic beverages &amp; som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_love_fungi_mug-p168034745342975532enw9p_400"/>
          <p:cNvPicPr/>
          <p:nvPr/>
        </p:nvPicPr>
        <p:blipFill>
          <a:blip r:embed="rId1"/>
          <a:stretch/>
        </p:blipFill>
        <p:spPr>
          <a:xfrm>
            <a:off x="4419720" y="18669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mfu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animal diseases (athle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ot, ringworm, aspergill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al plant diseases (apple scab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y1jll286e73vogec1bsy1mwnux7tzggwhgw"/>
          <p:cNvPicPr/>
          <p:nvPr/>
        </p:nvPicPr>
        <p:blipFill>
          <a:blip r:embed="rId1"/>
          <a:stretch/>
        </p:blipFill>
        <p:spPr>
          <a:xfrm>
            <a:off x="4267080" y="230508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Fung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689px-Fungi_collage"/>
          <p:cNvPicPr/>
          <p:nvPr/>
        </p:nvPicPr>
        <p:blipFill>
          <a:blip r:embed="rId1"/>
          <a:stretch/>
        </p:blipFill>
        <p:spPr>
          <a:xfrm>
            <a:off x="1684440" y="1523880"/>
            <a:ext cx="577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ities to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ses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ungi also grow i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fro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05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hot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s (e.g. cell 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rticle-new-thumbnail-ehow-images-a08-5v-dl-similarities-between-plants-fungi-800x800"/>
          <p:cNvPicPr/>
          <p:nvPr/>
        </p:nvPicPr>
        <p:blipFill>
          <a:blip r:embed="rId1"/>
          <a:stretch/>
        </p:blipFill>
        <p:spPr>
          <a:xfrm>
            <a:off x="4191120" y="2611440"/>
            <a:ext cx="4267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28_04EukPhylogeny"/>
          <p:cNvPicPr/>
          <p:nvPr/>
        </p:nvPicPr>
        <p:blipFill>
          <a:blip r:embed="rId1"/>
          <a:stretch/>
        </p:blipFill>
        <p:spPr>
          <a:xfrm>
            <a:off x="304920" y="590400"/>
            <a:ext cx="85341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gi are heterotrophic with extern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structures usually abov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usually below ground (branched network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h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31_02FungusStructure"/>
          <p:cNvPicPr/>
          <p:nvPr/>
        </p:nvPicPr>
        <p:blipFill>
          <a:blip r:embed="rId1"/>
          <a:stretch/>
        </p:blipFill>
        <p:spPr>
          <a:xfrm>
            <a:off x="658800" y="380880"/>
            <a:ext cx="78264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ajor phyla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sid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ost mush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yg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many mou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comyc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cludes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1_09FungalPhylogeny"/>
          <p:cNvPicPr/>
          <p:nvPr/>
        </p:nvPicPr>
        <p:blipFill>
          <a:blip r:embed="rId1"/>
          <a:stretch/>
        </p:blipFill>
        <p:spPr>
          <a:xfrm>
            <a:off x="2028960" y="609480"/>
            <a:ext cx="508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5:41:56Z</dcterms:created>
  <dc:creator>rubina khan</dc:creator>
  <dc:description/>
  <dc:language>en-US</dc:language>
  <cp:lastModifiedBy>rubina khan</cp:lastModifiedBy>
  <dcterms:modified xsi:type="dcterms:W3CDTF">2016-02-24T18:43:58Z</dcterms:modified>
  <cp:revision>101</cp:revision>
  <dc:subject/>
  <dc:title>PowerPoint Presentation</dc:title>
</cp:coreProperties>
</file>